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5D2-56A4-4295-A51E-B61AD42D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75A-ED82-4A57-ADBA-29A34F8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011-ED58-4598-A6CE-CE1CF857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599-B611-47B0-A3F3-DB66CDE1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6C1-3A14-4D56-8871-7ECA9936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A7E-55C0-4264-AFAE-F22472CD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2D0-8C9A-4E61-B142-9AF8E14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4C9A-B55D-4E81-A213-0F09C1B1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6C2-72DD-4485-AE81-3A5F28A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ADD5-FE4A-4DA0-9489-EAA7A32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D89-42D3-44B1-8F6C-5175B89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403-5112-46E6-97E4-4720BCE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14F9-BABE-43FD-8C31-4E39376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F31B-AE8A-4DBC-91E7-DA29C46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D9E-AF78-48D7-A2F8-AADE99A8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BE67-FDAF-4F48-9FD4-50106FA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BBCA-3958-4100-94A7-83EA145C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FAF-CD23-476B-9FDB-6A78F5D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AE4-D13E-40A0-9B62-1FEDEFF1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2CA-49CE-44F0-95D5-A442A978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7D4-D826-4AA3-ABF1-7D45CDF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60B-0303-44BC-8144-242F9BE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4B3-0D1D-480E-8204-7651174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7F6-3F5D-4A4E-8EDE-E468C11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A666-C539-4865-A466-4FEE34819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392F-6622-49EF-AFD1-17DCE6CE3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47920" y="37335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r: Julia Hi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334120" cy="391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581280" y="457200"/>
            <a:ext cx="1714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 Cas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2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uar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moderno y nue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05120" y="2133720"/>
            <a:ext cx="455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ca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antiguo y bon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patio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magnifico y boni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jard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bello y gra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724280" cy="34038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gar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ncreible y fabulos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495680" cy="273852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co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, nueva, estupenda, y increi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952880" cy="37227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comed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impresionante y moder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sa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bella y nue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, grande, bonito, y magnif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175280" cy="480060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0:26Z</dcterms:created>
  <dc:creator>hittijul</dc:creator>
  <dc:description/>
  <dc:language>en-US</dc:language>
  <cp:lastModifiedBy>hittijul</cp:lastModifiedBy>
  <dcterms:modified xsi:type="dcterms:W3CDTF">2012-10-26T17:07:55Z</dcterms:modified>
  <cp:revision>29</cp:revision>
  <dc:subject/>
  <dc:title>Slide 1</dc:title>
</cp:coreProperties>
</file>